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8D14-F88C-48B7-AEC8-54E12A199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FFEA-5A6C-4682-B136-DCB6C267D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E614-D8C5-4B47-9F1F-B71E97136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CC68-D47E-4D15-B9D8-82B62FB27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A088-D129-43CF-8E97-9234FF6B9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A8AE-3BD0-4740-95CE-298D3BB61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90760" y="2077920"/>
            <a:ext cx="41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B5C4-64E0-4656-BD64-2391075AB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88EF-C1E5-4B02-A9C3-E7EC7856D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B312-5CDD-4086-9874-1F497960BE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3BC1-9651-4214-86FB-5A2B70CC7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7F13-4B54-4A42-B961-AE5BCCEFE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C454-46F4-4F65-81B6-07B57ED99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DDE0-E8A8-42DE-AADE-79F7F4F01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9F74-7BEB-434F-BEEF-8914EEEAD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89E6-6D3C-49A7-A31D-77684DB2B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nderline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032600" y="66279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3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" name="Picture 9" descr="swish"/>
          <p:cNvPicPr/>
          <p:nvPr/>
        </p:nvPicPr>
        <p:blipFill>
          <a:blip r:embed="rId3"/>
          <a:stretch/>
        </p:blipFill>
        <p:spPr>
          <a:xfrm>
            <a:off x="0" y="574560"/>
            <a:ext cx="7236000" cy="219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boardworks_logo"/>
          <p:cNvPicPr/>
          <p:nvPr/>
        </p:nvPicPr>
        <p:blipFill>
          <a:blip r:embed="rId4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left_button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3"/>
          <p:cNvSpPr/>
          <p:nvPr/>
        </p:nvSpPr>
        <p:spPr>
          <a:xfrm>
            <a:off x="0" y="6597720"/>
            <a:ext cx="11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1CF1-E420-4684-A1E2-629B74F4A2F8}" type="slidenum"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6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10066"/>
                </a:solidFill>
                <a:latin typeface="Arial"/>
              </a:rPr>
              <a:t>Creating a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0091"/>
                </a:solidFill>
                <a:latin typeface="Arial"/>
              </a:rPr>
              <a:t>Handl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Designing Structure, Capturing and Presen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text_frame"/>
          <p:cNvPicPr/>
          <p:nvPr/>
        </p:nvPicPr>
        <p:blipFill>
          <a:blip r:embed="rId2"/>
          <a:stretch/>
        </p:blipFill>
        <p:spPr>
          <a:xfrm>
            <a:off x="1258920" y="5877000"/>
            <a:ext cx="6842160" cy="79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627280" y="638172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For more detailed instructions, see the </a:t>
            </a:r>
            <a:r>
              <a:rPr b="0" i="1" lang="en-GB" sz="1000" spc="-1" strike="noStrike">
                <a:solidFill>
                  <a:srgbClr val="010066"/>
                </a:solidFill>
                <a:latin typeface="Arial"/>
              </a:rPr>
              <a:t>Getting Started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presentation.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54" name="Picture 8" descr="flash icon"/>
          <p:cNvPicPr/>
          <p:nvPr/>
        </p:nvPicPr>
        <p:blipFill>
          <a:blip r:embed="rId3"/>
          <a:stretch/>
        </p:blipFill>
        <p:spPr>
          <a:xfrm>
            <a:off x="1677960" y="6093000"/>
            <a:ext cx="301680" cy="30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1908000" y="6093000"/>
            <a:ext cx="568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This icon indicates the slide contains activities created in Flash. These activities are not editable.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56" name="Picture 10" descr="macromedia flash logo"/>
          <p:cNvPicPr/>
          <p:nvPr/>
        </p:nvPicPr>
        <p:blipFill>
          <a:blip r:embed="rId4"/>
          <a:stretch/>
        </p:blipFill>
        <p:spPr>
          <a:xfrm>
            <a:off x="179280" y="138240"/>
            <a:ext cx="952560" cy="26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9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ShockwaveFlash1"/>
          <p:cNvGraphicFramePr/>
          <p:nvPr/>
        </p:nvGraphicFramePr>
        <p:xfrm>
          <a:off x="539640" y="836640"/>
          <a:ext cx="8136000" cy="51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836640"/>
                    <a:ext cx="8136000" cy="5184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9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Let</a:t>
            </a:r>
            <a:r>
              <a:rPr b="0" lang="ja-JP" sz="2800" spc="-1" strike="noStrike">
                <a:solidFill>
                  <a:srgbClr val="5b0091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s get it right?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34" name="Picture 49" descr=""/>
          <p:cNvPicPr/>
          <p:nvPr/>
        </p:nvPicPr>
        <p:blipFill>
          <a:blip r:embed="rId2"/>
          <a:srcRect l="6524" t="17249" r="28272" b="62924"/>
          <a:stretch/>
        </p:blipFill>
        <p:spPr>
          <a:xfrm>
            <a:off x="971640" y="4923000"/>
            <a:ext cx="7345440" cy="1674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0"/>
          <p:cNvSpPr/>
          <p:nvPr/>
        </p:nvSpPr>
        <p:spPr>
          <a:xfrm>
            <a:off x="539640" y="443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ere are some mor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el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s an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36" name="Rectangle 51"/>
          <p:cNvSpPr/>
          <p:nvPr/>
        </p:nvSpPr>
        <p:spPr>
          <a:xfrm>
            <a:off x="539640" y="8985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elds are of a certain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For example, Name and Surname ar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tex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; Date of birth is not text but 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37" name="Picture 52" descr=""/>
          <p:cNvPicPr/>
          <p:nvPr/>
        </p:nvPicPr>
        <p:blipFill>
          <a:blip r:embed="rId3"/>
          <a:srcRect l="6391" t="18213" r="26936" b="64197"/>
          <a:stretch/>
        </p:blipFill>
        <p:spPr>
          <a:xfrm>
            <a:off x="1979640" y="1844640"/>
            <a:ext cx="4680000" cy="1800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9"/>
          <p:cNvSpPr/>
          <p:nvPr/>
        </p:nvSpPr>
        <p:spPr>
          <a:xfrm>
            <a:off x="3276720" y="3789360"/>
            <a:ext cx="223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1116000" y="2085840"/>
            <a:ext cx="790560" cy="45972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40" name="Text Box 61"/>
          <p:cNvSpPr/>
          <p:nvPr/>
        </p:nvSpPr>
        <p:spPr>
          <a:xfrm>
            <a:off x="6805440" y="2085840"/>
            <a:ext cx="790920" cy="45972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cxnSp>
        <p:nvCxnSpPr>
          <p:cNvPr id="141" name="AutoShape 62"/>
          <p:cNvCxnSpPr>
            <a:stCxn id="140" idx="2"/>
            <a:endCxn id="138" idx="3"/>
          </p:cNvCxnSpPr>
          <p:nvPr/>
        </p:nvCxnSpPr>
        <p:spPr>
          <a:xfrm rot="5400000">
            <a:off x="5618160" y="2437200"/>
            <a:ext cx="1473840" cy="169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63"/>
          <p:cNvCxnSpPr>
            <a:stCxn id="139" idx="2"/>
            <a:endCxn id="138" idx="1"/>
          </p:cNvCxnSpPr>
          <p:nvPr/>
        </p:nvCxnSpPr>
        <p:spPr>
          <a:xfrm flipH="1" rot="16200000">
            <a:off x="1657440" y="2399760"/>
            <a:ext cx="1473840" cy="176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Line 67"/>
          <p:cNvSpPr/>
          <p:nvPr/>
        </p:nvSpPr>
        <p:spPr>
          <a:xfrm flipH="1">
            <a:off x="6156000" y="2276640"/>
            <a:ext cx="64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44" name="Line 68"/>
          <p:cNvSpPr/>
          <p:nvPr/>
        </p:nvSpPr>
        <p:spPr>
          <a:xfrm>
            <a:off x="1908000" y="234936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8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9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ShockwaveFlash1"/>
          <p:cNvGraphicFramePr/>
          <p:nvPr/>
        </p:nvGraphicFramePr>
        <p:xfrm>
          <a:off x="360360" y="836640"/>
          <a:ext cx="8532720" cy="51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" y="836640"/>
                    <a:ext cx="8532720" cy="5184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898560" y="1125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Using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ensures that the data in the record i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ali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898560" y="2060640"/>
            <a:ext cx="76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is means that if you try and typ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tex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n 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e/tim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data type the program will not allow it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istak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reduced by making sure the data is valid. However validation would not stop you typing in the wrong date!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98560" y="407664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ost database programs allow the user to creat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alidation check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such as the following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898560" y="508464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haracter type (number or letter or both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ength of field (how many characters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ange (specify from and to, for example from 1 to 20)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53" name="Picture 11" descr="right_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4"/>
          <p:cNvSpPr/>
          <p:nvPr/>
        </p:nvSpPr>
        <p:spPr>
          <a:xfrm>
            <a:off x="71280" y="712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Work it out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55" name="Picture 35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6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2"/>
          <p:cNvSpPr/>
          <p:nvPr/>
        </p:nvSpPr>
        <p:spPr>
          <a:xfrm>
            <a:off x="2782080" y="609300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Use the keyboard to try out the data.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graphicFrame>
        <p:nvGraphicFramePr>
          <p:cNvPr id="158" name="ShockwaveFlash1"/>
          <p:cNvGraphicFramePr/>
          <p:nvPr/>
        </p:nvGraphicFramePr>
        <p:xfrm>
          <a:off x="468360" y="765000"/>
          <a:ext cx="8207280" cy="532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765000"/>
                    <a:ext cx="8207280" cy="532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898560" y="10796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 addition to validating information you must also 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erif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he information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98560" y="23385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ot all data can be validated – for example, a spelling mistake or an incorrect amount entered may not be picked up by the validation proces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898560" y="3933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is is where the data has to be verified. 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898560" y="4724280"/>
            <a:ext cx="69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is is easily done by checking the data entered against the original document, or getting somebody else to ensure that the data being input is correct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64" name="Picture 9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Searching and sorting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8985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database program is extremely useful for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earchin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he data stored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67" name="Picture 6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539640" y="177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you search, you may want to find a particular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recor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search for the record for 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J Vincent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39640" y="278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ou can search for more than one record: for example, search for all the </a:t>
            </a:r>
            <a:r>
              <a:rPr b="0" lang="en-GB" sz="2400" spc="-1" strike="noStrike">
                <a:solidFill>
                  <a:srgbClr val="5b0091"/>
                </a:solidFill>
                <a:latin typeface="Arial"/>
              </a:rPr>
              <a:t>recor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where the </a:t>
            </a:r>
            <a:r>
              <a:rPr b="0" lang="en-GB" sz="2400" spc="-1" strike="noStrike">
                <a:solidFill>
                  <a:srgbClr val="5b0091"/>
                </a:solidFill>
                <a:latin typeface="Arial"/>
              </a:rPr>
              <a:t>fiel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urnam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equals (=) Vincent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9640" y="407664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more detail, you can search for </a:t>
            </a:r>
            <a:r>
              <a:rPr b="0" lang="en-GB" sz="2400" spc="-1" strike="noStrike">
                <a:solidFill>
                  <a:srgbClr val="5b0091"/>
                </a:solidFill>
                <a:latin typeface="Arial"/>
              </a:rPr>
              <a:t>recor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with 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ombinatio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of fields: for example, search for all the records where the fiel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urnam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Vincent and th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e of birth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02/02/1980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ShockwaveFlash1"/>
          <p:cNvGraphicFramePr/>
          <p:nvPr/>
        </p:nvGraphicFramePr>
        <p:xfrm>
          <a:off x="324000" y="981000"/>
          <a:ext cx="849600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81000"/>
                    <a:ext cx="849600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539640" y="8985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orting is another useful feature of a databas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76" name="Picture 6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539640" y="14540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you sort you may want to sort by a particular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el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for example, sort by 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9640" y="2421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ou can sort by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more than one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eld, for example you can sort by field 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nd field 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urname</a:t>
            </a:r>
            <a:r>
              <a:rPr b="0" lang="ja-JP" sz="2400" spc="-1" strike="noStrike">
                <a:solidFill>
                  <a:srgbClr val="010066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39640" y="335772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You can choose which order you would like the sort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400536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scending order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starting with the letter A or smallest number and going up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74560" y="537372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escending order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– starting with the letter Z or largest number and going down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324000" y="907920"/>
          <a:ext cx="8424720" cy="511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07920"/>
                    <a:ext cx="842472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What is a database?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58" name="Text Box 77"/>
          <p:cNvSpPr/>
          <p:nvPr/>
        </p:nvSpPr>
        <p:spPr>
          <a:xfrm>
            <a:off x="3997440" y="4724280"/>
            <a:ext cx="1295280" cy="642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66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59" name="Text Box 80"/>
          <p:cNvSpPr/>
          <p:nvPr/>
        </p:nvSpPr>
        <p:spPr>
          <a:xfrm>
            <a:off x="928944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60" name="Picture 89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1"/>
          <p:cNvSpPr/>
          <p:nvPr/>
        </p:nvSpPr>
        <p:spPr>
          <a:xfrm>
            <a:off x="525960" y="306864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ender: ma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2" name="Rectangle 92"/>
          <p:cNvSpPr/>
          <p:nvPr/>
        </p:nvSpPr>
        <p:spPr>
          <a:xfrm>
            <a:off x="2989080" y="112536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: Mr James Brown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3" name="Rectangle 93"/>
          <p:cNvSpPr/>
          <p:nvPr/>
        </p:nvSpPr>
        <p:spPr>
          <a:xfrm>
            <a:off x="5296320" y="18446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alary £30,00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4" name="Rectangle 94"/>
          <p:cNvSpPr/>
          <p:nvPr/>
        </p:nvSpPr>
        <p:spPr>
          <a:xfrm>
            <a:off x="4430160" y="270828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arital status: sing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5" name="Rectangle 95"/>
          <p:cNvSpPr/>
          <p:nvPr/>
        </p:nvSpPr>
        <p:spPr>
          <a:xfrm>
            <a:off x="1405080" y="42210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lood type: A+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6" name="Rectangle 96"/>
          <p:cNvSpPr/>
          <p:nvPr/>
        </p:nvSpPr>
        <p:spPr>
          <a:xfrm>
            <a:off x="4860720" y="364500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ress: 6 High Street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401400" y="196380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lephone: 0170 88691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539640" y="898560"/>
            <a:ext cx="8280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bas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ollection of information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ich is stored in a way that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can easily be accessed and fou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atabases are used by most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organization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tore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information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database is made up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l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ach file is made up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recor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ach record is made up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el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elds have a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 typ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ata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ust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alidate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verifie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o avoid mistake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database can be used to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earch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or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data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71280" y="71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88" name="Picture 9" descr="boyhead2"/>
          <p:cNvPicPr/>
          <p:nvPr/>
        </p:nvPicPr>
        <p:blipFill>
          <a:blip r:embed="rId9"/>
          <a:stretch/>
        </p:blipFill>
        <p:spPr>
          <a:xfrm>
            <a:off x="826920" y="5803920"/>
            <a:ext cx="1476720" cy="8668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4500720" y="5589720"/>
            <a:ext cx="2808000" cy="1268280"/>
          </a:xfrm>
          <a:prstGeom prst="cloudCallout">
            <a:avLst>
              <a:gd name="adj1" fmla="val -130101"/>
              <a:gd name="adj2" fmla="val -24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0091"/>
                </a:solidFill>
                <a:latin typeface="Arial"/>
              </a:rPr>
              <a:t>What can I remember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0" name="WordArt 10"/>
          <p:cNvSpPr txBox="1"/>
          <p:nvPr/>
        </p:nvSpPr>
        <p:spPr>
          <a:xfrm>
            <a:off x="7454880" y="6093000"/>
            <a:ext cx="158112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right_button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411280" y="907920"/>
            <a:ext cx="4176720" cy="3673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9280" y="105264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ame: Mr James Brown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17840" y="1557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elephone: 0170 88691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19640" y="20350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Gender: ma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519280" y="256536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ddress: 6 High Street</a:t>
            </a: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19640" y="304308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lood type: A+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521440" y="354816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alary £30,00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520360" y="407664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arital status: sing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97440" y="4724280"/>
            <a:ext cx="1295280" cy="642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66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39640" y="55166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bas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a collection (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bas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dat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hat can be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ccesse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informatio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Who uses databases?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0" name="Picture 57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0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ShockwaveFlash1"/>
          <p:cNvGraphicFramePr/>
          <p:nvPr/>
        </p:nvGraphicFramePr>
        <p:xfrm>
          <a:off x="755640" y="1052640"/>
          <a:ext cx="7704000" cy="540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052640"/>
                    <a:ext cx="7704000" cy="540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9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Who uses databases?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5" name="Picture 70" descr="flash icon"/>
          <p:cNvPicPr/>
          <p:nvPr/>
        </p:nvPicPr>
        <p:blipFill>
          <a:blip r:embed="rId1"/>
          <a:stretch/>
        </p:blipFill>
        <p:spPr>
          <a:xfrm>
            <a:off x="7197840" y="7128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1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ShockwaveFlash1"/>
          <p:cNvGraphicFramePr/>
          <p:nvPr/>
        </p:nvGraphicFramePr>
        <p:xfrm>
          <a:off x="324000" y="836640"/>
          <a:ext cx="842616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36640"/>
                    <a:ext cx="842616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1280" y="71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0091"/>
                </a:solidFill>
                <a:latin typeface="Arial"/>
              </a:rPr>
              <a:t>For the record</a:t>
            </a:r>
            <a:endParaRPr b="0" lang="en-US" sz="2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8985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efore computers were around, organizations kept information on record cards in card boxes, or on sheets of paper in files and filing cabinets.                                         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91" name="Picture 30" descr="filingcabinet"/>
          <p:cNvPicPr/>
          <p:nvPr/>
        </p:nvPicPr>
        <p:blipFill>
          <a:blip r:embed="rId1"/>
          <a:stretch/>
        </p:blipFill>
        <p:spPr>
          <a:xfrm>
            <a:off x="2411280" y="2492280"/>
            <a:ext cx="1638360" cy="1695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1"/>
          <p:cNvSpPr/>
          <p:nvPr/>
        </p:nvSpPr>
        <p:spPr>
          <a:xfrm>
            <a:off x="539640" y="4581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se days, most databases are created and stored on a computer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93" name="Picture 32" descr="files"/>
          <p:cNvPicPr/>
          <p:nvPr/>
        </p:nvPicPr>
        <p:blipFill>
          <a:blip r:embed="rId2"/>
          <a:stretch/>
        </p:blipFill>
        <p:spPr>
          <a:xfrm>
            <a:off x="5435640" y="2637000"/>
            <a:ext cx="1638360" cy="123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right_button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ile"/>
          <p:cNvSpPr/>
          <p:nvPr/>
        </p:nvSpPr>
        <p:spPr>
          <a:xfrm>
            <a:off x="3419640" y="4869000"/>
            <a:ext cx="2950920" cy="158256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339120 h 1582560"/>
              <a:gd name="textAreaBottom" fmla="*/ 1486800 h 1582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6" name="Text Box 115"/>
          <p:cNvSpPr/>
          <p:nvPr/>
        </p:nvSpPr>
        <p:spPr>
          <a:xfrm>
            <a:off x="1079640" y="3508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7" name="Text Box 117"/>
          <p:cNvSpPr/>
          <p:nvPr/>
        </p:nvSpPr>
        <p:spPr>
          <a:xfrm>
            <a:off x="3492360" y="5016600"/>
            <a:ext cx="2951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66"/>
                </a:solidFill>
                <a:latin typeface="Arial"/>
              </a:rPr>
              <a:t>J. Vincent</a:t>
            </a: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66"/>
                </a:solidFill>
                <a:latin typeface="Arial"/>
              </a:rPr>
              <a:t>Address: 6 Broad Lane, Winsford</a:t>
            </a: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66"/>
                </a:solidFill>
                <a:latin typeface="Arial"/>
              </a:rPr>
              <a:t>Telephone: 0987 654675</a:t>
            </a: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66"/>
                </a:solidFill>
                <a:latin typeface="Arial"/>
              </a:rPr>
              <a:t>Date of Birth: 02.05.1980</a:t>
            </a: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8" name="Text Box 129"/>
          <p:cNvSpPr/>
          <p:nvPr/>
        </p:nvSpPr>
        <p:spPr>
          <a:xfrm>
            <a:off x="1079640" y="530712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99" name="Text Box 131"/>
          <p:cNvSpPr/>
          <p:nvPr/>
        </p:nvSpPr>
        <p:spPr>
          <a:xfrm>
            <a:off x="539640" y="8985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n…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00" name="Picture 135" descr="filingcabinet"/>
          <p:cNvPicPr/>
          <p:nvPr/>
        </p:nvPicPr>
        <p:blipFill>
          <a:blip r:embed="rId1"/>
          <a:stretch/>
        </p:blipFill>
        <p:spPr>
          <a:xfrm>
            <a:off x="3851280" y="1268280"/>
            <a:ext cx="1638360" cy="169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6" descr="files"/>
          <p:cNvPicPr/>
          <p:nvPr/>
        </p:nvPicPr>
        <p:blipFill>
          <a:blip r:embed="rId2"/>
          <a:stretch/>
        </p:blipFill>
        <p:spPr>
          <a:xfrm>
            <a:off x="3995640" y="3429000"/>
            <a:ext cx="1295640" cy="979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7"/>
          <p:cNvSpPr/>
          <p:nvPr/>
        </p:nvSpPr>
        <p:spPr>
          <a:xfrm>
            <a:off x="1084320" y="170820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ling cabinet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03" name="Picture 140" descr="right_button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42880" y="89856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ow…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5584" t="15971" r="69214" b="79897"/>
          <a:stretch/>
        </p:blipFill>
        <p:spPr>
          <a:xfrm>
            <a:off x="3780000" y="1773360"/>
            <a:ext cx="1946160" cy="28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rcRect l="6391" t="18213" r="27800" b="71411"/>
          <a:stretch/>
        </p:blipFill>
        <p:spPr>
          <a:xfrm>
            <a:off x="3276720" y="5157720"/>
            <a:ext cx="3201840" cy="1166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1079640" y="1708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3"/>
          <a:srcRect l="5584" t="15971" r="56630" b="52529"/>
          <a:stretch/>
        </p:blipFill>
        <p:spPr>
          <a:xfrm>
            <a:off x="3348000" y="2546280"/>
            <a:ext cx="3024360" cy="2266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1079640" y="3508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079640" y="530712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11" name="Picture 11" descr="right_butt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rcRect l="6391" t="18213" r="26936" b="62087"/>
          <a:stretch/>
        </p:blipFill>
        <p:spPr>
          <a:xfrm>
            <a:off x="2268360" y="1484280"/>
            <a:ext cx="446436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2320920"/>
            <a:ext cx="1368360" cy="459720"/>
          </a:xfrm>
          <a:prstGeom prst="rect">
            <a:avLst/>
          </a:prstGeom>
          <a:noFill/>
          <a:ln w="3240">
            <a:solidFill>
              <a:srgbClr val="5b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635280" y="658800"/>
            <a:ext cx="1079640" cy="459720"/>
          </a:xfrm>
          <a:prstGeom prst="rect">
            <a:avLst/>
          </a:prstGeom>
          <a:noFill/>
          <a:ln w="9360">
            <a:solidFill>
              <a:srgbClr val="5b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eld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H="1">
            <a:off x="2843280" y="1125360"/>
            <a:ext cx="93672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H="1">
            <a:off x="3563640" y="119700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211640" y="1197000"/>
            <a:ext cx="144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4427640" y="1197000"/>
            <a:ext cx="108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4643280" y="1052640"/>
            <a:ext cx="16574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079640" y="3716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ach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recor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made up of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field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categories of information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1835280" y="2852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1908000" y="2637000"/>
            <a:ext cx="287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1908000" y="2421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079640" y="4911840"/>
            <a:ext cx="73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fields here are Name, Surname, Address, Telephone and Date of birth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25" name="Picture 32" descr="right_butto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3"/>
          <p:cNvSpPr/>
          <p:nvPr/>
        </p:nvSpPr>
        <p:spPr>
          <a:xfrm>
            <a:off x="900000" y="952560"/>
            <a:ext cx="792360" cy="459720"/>
          </a:xfrm>
          <a:prstGeom prst="rect">
            <a:avLst/>
          </a:prstGeom>
          <a:noFill/>
          <a:ln w="3240">
            <a:solidFill>
              <a:srgbClr val="5b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1692360" y="1197000"/>
            <a:ext cx="71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4:33:10Z</dcterms:created>
  <dc:creator>Boardworks Ltd</dc:creator>
  <dc:description/>
  <dc:language>en-US</dc:language>
  <cp:lastModifiedBy>ladmin</cp:lastModifiedBy>
  <dcterms:modified xsi:type="dcterms:W3CDTF">2013-02-05T20:57:33Z</dcterms:modified>
  <cp:revision>164</cp:revision>
  <dc:subject/>
  <dc:title>Unit 6 b. Creating a Data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layBack">
    <vt:bool>0</vt:bool>
  </property>
</Properties>
</file>